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026-811A-4075-AD01-466E0542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59F-817C-48A7-88EE-DAE0ACBE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3D5-5CE9-496C-BAAD-2544108C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728-A0B9-404D-BE43-9BB550DD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241-5528-4A2E-89D1-A89C7EF8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0AE-4E9B-4E86-93BA-87A9A7E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156-23AB-48F7-8974-176A4D7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142-AC72-48A7-AB1C-9657D24F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D6A-350B-4F9A-A536-10CBD3C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D00-F4FE-4434-8E8E-C121FC6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829-AF90-4E66-9ABD-654F7B9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F92-5FCE-4371-B85B-5B8771B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F110-23ED-4D10-882B-E936186ADE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ЕСКРИПТИВ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СВР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ЈЕД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Р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868320" y="2286000"/>
            <a:ext cx="755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1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 И ЗАВИСНОСТ ОД ЛЕКОВА И ПА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етман обухвата неколико подручја делова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етман акутне интоксикације-предозира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етман апстиненцијалне кри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пшти третман психолоске адикције/рехабилит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итуциона терап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пролонгираном лечењу опијатске зависности и одржавања,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к избора је метад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ј снажни, краткотрајни психостимуланс је по први пут екстрахован из лист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ythroxylon kok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буна, који примарно расте у Перуу и Боливији,средином 19-ог ве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88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естети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рл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ер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њего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ћ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езбе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естез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зоконстрик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устављ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9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ла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т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стој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н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икси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ављ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ли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9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стој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Coca-Col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лавни путеви употребе кокаина су орални, интраназални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.v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 инхалациј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енг за ове начине употребе су жвакање, ушмркавање, "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inlining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убризгати директно у вену) и пушење (укључује пушење слободне базе и крек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шмркавањем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штћењ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залн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укоз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гад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роничних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ник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вљај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зеб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ијавиц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ронталних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узитис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их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форациј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сн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град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уживот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јединачн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9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аболиш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тр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активн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аболит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тектоват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рину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24-7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ти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атког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иода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треб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уготрајна употреба кокаина доводи до повећања иритабилности, маничног стања, потпуно развијене психозе праћене аудитивним халуцинациј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дицинске компликације су најчешће кардиоваскуларне (поремећај срчаног ритма-вентрикуларне фибрилације,инфаркти), респираторне (оштећење функције дисања, бол у грудима), неуролошке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V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конвулзије, вртоглавица, главобоље, кома), гастроинтестиналне (болови у абдомену, мучнина, повраћањ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иј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ијати представљају групу природних (морфин и кодеин)  и полусинтетских (хероин и диландид) деривата опијумског м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етички деривати са сличним својствима као што је метадон нпр., називају се опиоид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стимулан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пушт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радренал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синаптич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ршета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ерпони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а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uptake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луче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трансмите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ч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з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јаз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бин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енфлур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заврши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гич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љад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време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р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рену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ват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уж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ор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рмацеутс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пан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то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деал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бина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творљив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с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дминистрира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ир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ото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уг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увре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имин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но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6-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ото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увре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лимин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но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1-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133720"/>
            <a:ext cx="822960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но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лиц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плик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sniff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зално ушмрка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ор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нхалациј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грев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рентерал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i.v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треба амфетамина у дужем временском периоду карактерише се исцрпљивањем  енергетског капацитета,  појачаном раздражљивошћу, хроничном несаницом, импотенцијом, токсичним делиријумом, поремећајем расположења, губитаком телесне тежине, антисоцијалним  тенденцијама  и тзв.”амфетаминском  психозом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стоје три групе амфетамина и сродних супстанц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лавни амфета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мфетамин, декстроамфетамин, метамфетамин, метилфенидат, пимо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мфетамину сличн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федрин, фенилпропраноламин, кх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нтетички амфетамини (класификовани као халуциног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ecstasy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MDM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MDE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“Ева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00000"/>
            <a:ext cx="822960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cstas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је супстанца коју је синтетисала немачка фармацеутска индустрија, 1912.године за сврху супресије апет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сније је коришћен у психијатрији као ”пеницилин за душу”, а од 90-тих година двадесетог века као рекреациона дрога међу тинејџерима на журк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cstas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ја огледају се у мозгу у повећању активности серотонина, допамина  и норадренал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м великих количина серотонина, ecstaсy  узрокује  смањење овог важног неуротрансмитера у мозгу и доприноси негативним обрасцима понашања који се јављају неколико дана након коришћења др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зависности од дозе и начина узимања ефекти трају 4-8 сати изазивајући психоенергизацију, повећање активности, самопоуздања, смањење апетита, осецаја жедји и потребе за сном (исцрпљење и дехидратациј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утна нежељена дејства су и нагле епизоде панике и анксиозности, мучнина, презнојавање, халуцинације, тремор, хипертермија, психотичне реак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ер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лусинтетски дериват морфина који је природна супстанца посебним поступком екстрахована из махуна м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 је крајем 19.ог века и знатно је потентнији од опијума и морфина, како у аналгетичком смислу, тако и када је у питању еуфорични ефек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о је илегална дрога која се у организам уноси ушмркавањем, пушењем или интравенским путем (најчешћ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пролонгиране употребе у дужем временском периоду задржава се анксиозност, параноидност, депресивност, депресонализациони феномени хронифицираног тока, когнитивни дефицит (оштећење памћења, пажње и концентрације), агресивност, поремећај расположења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трајни ефек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ношење хероина путем интравенских ињекција доводи до интензивне еуфорије у трајању од 7-8 секунди- “rush”, путем интрамускуларних у трајању од 5 до 8 минута слабијег интензит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трајни ефек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да се хероин ушмркава или пуши ефекат се постиже након 10 до 15 минута и знатно је слабијег интензитета него када се уноси интравенским пут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з обзира којим путем се хероин уноси, врло брзо доводи до адикц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отрајни ефек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ле иницијалног ефекта, наступа стање поспаности -”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on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које траје неколико час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трајни ефек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дикција је најзначајнији дуготрајни ефекат и представља хроничну болест са честим релапсима која се карактерише компулзивним узимањем дроге као и молекуларним и неурохемијским променама у моз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трајни ефек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роин производи висок степен толеранције и физичке зависности што управо мотивише компулзивно коришћење и злоупотреб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 физичком зависношћу тело се адаптира  на присуство дроге и након наглог прекида уношења развијају се знаци апстиненцијалне кри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боље резултате у лечењу опијатских зависника даје фармакотерапија удружена  са психотерапијом и социотерапијским процедур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8:28:34Z</dcterms:created>
  <dc:creator>XP</dc:creator>
  <dc:description/>
  <dc:language>en-US</dc:language>
  <cp:lastModifiedBy>Ucionica</cp:lastModifiedBy>
  <dcterms:modified xsi:type="dcterms:W3CDTF">2017-01-31T14:15:18Z</dcterms:modified>
  <cp:revision>13</cp:revision>
  <dc:subject/>
  <dc:title>DESKRIPTIVNI OSVRT NA POJEDINE DROGE:</dc:title>
</cp:coreProperties>
</file>