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2E51-4118-4AC9-8B42-83D2535DF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0EB1-9665-4224-BD23-236B4E15A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2F9D-C3C8-4F0C-BDEE-1182DECD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A8D4-8D2D-41CA-AD3D-43681E74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8DA-BBF6-4B2F-A8D0-3A9DF812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FFAC-C85C-484C-8E7F-FBA3CCCC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43F0-D77E-4AAA-A4B0-C9495E67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1E21-A497-4E3A-889F-B82ACF34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EE3B-6FB3-4D84-8F88-6D6DD4EF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E2B0-49C3-4D85-BCE2-CBA34B86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132-B885-440E-B5C1-928C1DE6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610-7771-460C-8276-41860979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A11C-2231-430E-B21A-8B762E2E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AFC3-3707-4A6C-867B-0CA426D6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B756-A860-424F-9AE5-0FFFDAF30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25304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СТОРИЈА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РИШЋ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СИХОАКТИВ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61070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ва недеља наста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57200" y="2286000"/>
            <a:ext cx="822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11111"/>
                </a:solidFill>
                <a:latin typeface="Arial"/>
                <a:ea typeface="Arial"/>
              </a:rPr>
              <a:t>И12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ЛОУПОТРЕБА И ЗАВИСНОСТ ОД ЛЕКОВА И ПА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944640" y="380880"/>
            <a:ext cx="740736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СТОРИЈА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РИШЋ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СИХОАКТИВ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 може се прецизно утврдити време од када ови номадски народи, раширени од Карпата до Монголије, користе конопљу и њене произво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ронолошки, чини се да је пут ширења конопље ишао са истока на запад, односно из области Кине и Кореје, где конопљу налазимо још у 3. миленијуму пре Хрис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СТОРИЈА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РИШЋ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СИХОАКТИВ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Индији, употреба конопље потврђена је и у светим списима - Атхарва Ведама, које датирају из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реди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е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н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акође, неки Индуси помињу конопљино лишће као станиште "анђела читавог човечанства", док је касније, употреба конопље заживела и у медицин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СТОРИЈА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РИШЋ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СИХОАКТИВ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 ли сте се икада запитали шта су амерички Индијанци пушили у чувеној Лули мир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рхеолог Бил Фицџералд открио је приликом археолошких ископавања у Онтарију неколико лула које датирају из времена пре доласка Европља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емијским анализама, утврђено је да поред никотина, у остацима смоле постоји и основни алкалоид конопље -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9 (тетрахидроканабинол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СТОРИЈА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РИШЋ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СИХОАКТИВ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рви конкретни доказ о коришћењу канабиса долази из Израела, где су у гробу једне жене, пронађени и остаци ове биљке. Сахрана се датира у 1.500 годину п.н.е, а истраживачи претпостављају да је жена умрла на порођају и да јој је конопља давана како би олакшала порођајне мук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СТОРИЈА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РИШЋ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СИХОАКТИВ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самој Европи, поред Скита који се свакодневно инхалирају конопљиним испарењима, у близини Берлина, наилазимо на семе и лишће конопље у једној урни, пронађеној заједно са остацима спаљеног покојника, у 500. години п.н.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048120" y="3962520"/>
            <a:ext cx="33526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СТОРИЈА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РИШЋ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СИХОАКТИВ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 неколико неолитских станишта у Србији, археолози су пронашли мале земљане лулице. Ови налази, пронађени у насељима винчанске културе, старији су 4.000 година од првог налаза конопље у Европ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1066680" y="3733920"/>
            <a:ext cx="76964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СТОРИЈА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РИШЋ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СИХОАКТИВ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равно, не може се потврдити које су биљке сагоревале у овим лулама, али је јасно да су неолитски корисници у часовима доколице и опуштања пушили неке трав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2133720" y="3200400"/>
            <a:ext cx="4724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ОР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АЛУЦИНОГ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ма неким непосредним подацима при Елеусинским мистеријама, свештеници и особе посвећене у ове обреде користе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халуциногене печурк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и тамја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3200400" y="3200400"/>
            <a:ext cx="2971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силоциб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леусинске мистерије један је од најважнијих ритуалних обреда у старој Грчкој и било је забрањено за учеснике да јавно и детаљно причају о њи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 Елеусинским мистеријама као извор психоактивног стимуланса користи се сирова печурка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garicus muscaricu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код нас позната као пупавка или мухара), која у себи сaдржи хaлуциноген псилоциб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amanita_muscaria_red"/>
          <p:cNvPicPr/>
          <p:nvPr/>
        </p:nvPicPr>
        <p:blipFill>
          <a:blip r:embed="rId1"/>
          <a:stretch/>
        </p:blipFill>
        <p:spPr>
          <a:xfrm>
            <a:off x="4635360" y="1600200"/>
            <a:ext cx="4050000" cy="30304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силоциб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силоцибин делује 10 минута након конзумације, а дејство траје од 5 до 10 сати, при чему особа доживљава јаке халуцинације - гледање кроз затворене капке, утисак напуштања тела, путовање кроз врем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СТОРИЈА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РИШЋ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СИХОАКТИВ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 постоји начин да се утврди од када људи користе дроге, односно психоактивне супстанце, али је сигурно да то раде прилично ду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ни народи и племена, од давнина су схватали каква дејства на њих имају и слабије и јаче дроге, па су сходно утицају наркотика и створили филозофију узимања, доживљавања и употребе опојних биљак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e3swb7"/>
          <p:cNvPicPr/>
          <p:nvPr/>
        </p:nvPicPr>
        <p:blipFill>
          <a:blip r:embed="rId1"/>
          <a:stretch/>
        </p:blipFill>
        <p:spPr>
          <a:xfrm>
            <a:off x="1143000" y="2133720"/>
            <a:ext cx="2571840" cy="2324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48320" y="1600200"/>
            <a:ext cx="403848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ође, на Медитерану наилазимо на спомен пића од менте (нане) са додатком печур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оватно је да су пића коришћена приликом ових ритуала "обогаћивана" и опијумом, пошто већина античких писаца помиње МАК и опијум као лекове, или препарате против несани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ндраг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12-QZC05088_QCP05092-06-108_Mandragora"/>
          <p:cNvPicPr/>
          <p:nvPr/>
        </p:nvPicPr>
        <p:blipFill>
          <a:blip r:embed="rId1"/>
          <a:stretch/>
        </p:blipFill>
        <p:spPr>
          <a:xfrm>
            <a:off x="1066680" y="2057400"/>
            <a:ext cx="2543400" cy="3657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648320" y="1599840"/>
            <a:ext cx="4038480" cy="36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тички народи, посебно Грци, користили су још једну биљку која садржи јаке интоксиканте -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андрагор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мски ботаничар Диоскорид у свом делу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 materia medica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је рецепт за употребу мандрагоре : "потопи корење у вино и тако добијен сок сачувај, и дај га да изазовеш безосећајност онога који је посечен или испечен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андраг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mandragora%2520ziedas"/>
          <p:cNvPicPr/>
          <p:nvPr/>
        </p:nvPicPr>
        <p:blipFill>
          <a:blip r:embed="rId1"/>
          <a:stretch/>
        </p:blipFill>
        <p:spPr>
          <a:xfrm>
            <a:off x="457200" y="1905120"/>
            <a:ext cx="3743280" cy="3200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други антички списатељи помињу мандрагору као препарат добар за успављивање пацијената пре операције, а да је коришћена широм Медитерана потврђује и то што су је стари Египћани сматрали поклоном врховног бога 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андраг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403848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данашњој Грчкој, и даље се одвија "ритуална жетва" ове биљке која садржи хиосциамин, скополамин и хиосцин. Чак је и велики Шекспир помиње у својим чувеним драмама Ромео и Јулија и Антоније и Клеопа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ндрагора, често везивана 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аџбине средњовековних вешт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mandragora_splash"/>
          <p:cNvPicPr/>
          <p:nvPr/>
        </p:nvPicPr>
        <p:blipFill>
          <a:blip r:embed="rId2"/>
          <a:stretch/>
        </p:blipFill>
        <p:spPr>
          <a:xfrm>
            <a:off x="4635360" y="1447920"/>
            <a:ext cx="405000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phophora williams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пејот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y134171665797842622_0"/>
          <p:cNvPicPr/>
          <p:nvPr/>
        </p:nvPicPr>
        <p:blipFill>
          <a:blip r:embed="rId1"/>
          <a:stretch/>
        </p:blipFill>
        <p:spPr>
          <a:xfrm>
            <a:off x="514440" y="2057400"/>
            <a:ext cx="3600360" cy="2386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648320" y="1600200"/>
            <a:ext cx="403848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јотл је кактус који је најраспрострањенији у Тексасу и Мекси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јотл садрж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ескал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је деловање траје од 2 до 12 са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делује тако да конзумент постане дубоко инстроспективан, а уз то може имати снажне визуелне и акустичне  халуцина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СТОРИЈА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РИШЋ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СИХОАКТИВ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оге нису коришћене само у обредима, већ и свакодневно, као што је то случај са становницима Анда, који од изласка до заласка Сунца жваћу лишће ко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 великом сигурношћу у свакодневне уживаоце дрога можемо уврстити и скитске народе, који се ни за живота, ни у смрти нису одвајали од конопљиног семен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438280" y="4330800"/>
            <a:ext cx="388620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СТОРИЈА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РИШЋ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СИХОАКТИВ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оге су обично коришћене у религиозним и култним обредима, где су одређени људи из групе покушавали да ступе у контакт са боговима, "доњим" светом, преминулима, као и да контролишу смрт, несрећу, време (физичко и климатско), боле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819520" y="4038480"/>
            <a:ext cx="336384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СТОРИЈА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РИШЋ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СИХОАКТИВ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торијски извори нам говоре да су дроге коришћене и као додатна стимулација у биткама, посебно онима вођеним приликом Крсташких рато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м приликом, европски витезови сусретали су се са једном посебном исламистичком сектом - Асасинима, који су конзумирали хашиш у огромним количинама и тако окуражени кретали у бој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276720" y="464832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СТОРИЈА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РИШЋ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СИХОАКТИВ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ред Асасина, коришћење конопље у вези са војним вештинама и ратовањем налазимо и у далекој Земљи излазећег сунца, где се везивала за развој борилачких вештина нинџ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2895480" y="3657600"/>
            <a:ext cx="35956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СТОРИЈА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РИШЋ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СИХОАКТИВ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838080" y="159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егенде говоре, да на самом почетку учења ових вештина, нинџа сади неколико зрневља конопљ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 дана у дан, нинџа прескаче стабљику која расте веома брзо, тако да и нинџа мора повећавати своје способ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2971800" y="3857760"/>
            <a:ext cx="265896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СТОРИЈА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РИШЋ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СИХОАКТИВ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828440"/>
            <a:ext cx="3200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ви археолошки налаз који потврђује коришћење конопље долази из Сибира, са локалитета Пазарик, где је руски археолог Руденко године 1929. открио гробницу са богатом сахраном мушкар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ђу бројним гробним прилозима, пронашао је и семе индијске конопљ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3809880" y="1828800"/>
            <a:ext cx="5135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СТОРИЈА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РИШЋ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СИХОАКТИВ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уденко помиње налазе семена тамјана и коријанде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горевањем тамјана ослобађа се ТХЦ, главни састојак конопље, који у овом случају има благе психоделичне ефек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2819520" y="3632040"/>
            <a:ext cx="3429000" cy="23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1:36:49Z</dcterms:created>
  <dc:creator>XP</dc:creator>
  <dc:description/>
  <dc:language>en-US</dc:language>
  <cp:lastModifiedBy>Minja</cp:lastModifiedBy>
  <dcterms:modified xsi:type="dcterms:W3CDTF">2017-01-31T00:04:04Z</dcterms:modified>
  <cp:revision>24</cp:revision>
  <dc:subject/>
  <dc:title>ISTORIJAT KORIŠĆENJA PSIHOAKTIVNIH SUPSTANCI</dc:title>
</cp:coreProperties>
</file>