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93ED3-F254-476F-9085-3BF599ECE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F1C69-D1D6-46A5-A9E3-3FB6EAA66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3EA94-BCF9-408C-88D7-71C1B039E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EC317-9D32-4C94-B300-495543E71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18B3A-CCCA-4347-A61D-08B08A239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7E745-C373-4094-8FDC-C266E2E71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A89F1-A211-4460-8811-DFF0D9199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2AC3D-94AE-4C85-98FD-8D74F36C6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13A53-FFDA-4694-BB4E-5E926000A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42E0F-7A8C-4C93-B478-5CEBA9BE3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B9D3A-CBAB-4346-829B-116E5EF1A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D3DE0-25B1-49F7-9658-D059C8E5D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3730E-67F7-488D-8937-141813015D7D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935520"/>
            <a:ext cx="8229600" cy="95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  <a:ea typeface="Arial"/>
              </a:rPr>
              <a:t>УПОТРЕБ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  <a:ea typeface="Arial"/>
              </a:rPr>
              <a:t>ЗЛОУПОТРЕБ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  <a:ea typeface="Arial"/>
              </a:rPr>
              <a:t>СУПСТАНЦИ</a:t>
            </a:r>
            <a:br>
              <a:rPr sz="2800"/>
            </a:br>
            <a:r>
              <a:rPr b="0" lang="sr-RS" sz="28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Етички идентитет и злоупотреба супстанци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457200" y="6107040"/>
            <a:ext cx="82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Прва недеља настав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Text Box 2"/>
          <p:cNvSpPr/>
          <p:nvPr/>
        </p:nvSpPr>
        <p:spPr>
          <a:xfrm>
            <a:off x="457200" y="2286000"/>
            <a:ext cx="82296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  <a:ea typeface="Arial"/>
              </a:rPr>
              <a:t>ИНТЕГРИСАНЕ АКАДЕМСКЕ СТУДИЈЕ ФАРМАЦИЈ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  <a:ea typeface="Arial"/>
              </a:rPr>
              <a:t>И12 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ЗЛОУПОТРЕБА И ЗАВИСНОСТ ОД ЛЕКОВА И ПАС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4" name="Picture 7" descr="E:\DOKUMENTI\Nimda dokumenti\memo grb.png"/>
          <p:cNvPicPr/>
          <p:nvPr/>
        </p:nvPicPr>
        <p:blipFill>
          <a:blip r:embed="rId1"/>
          <a:stretch/>
        </p:blipFill>
        <p:spPr>
          <a:xfrm>
            <a:off x="944640" y="380880"/>
            <a:ext cx="7407360" cy="135756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3"/>
          <p:cNvSpPr/>
          <p:nvPr/>
        </p:nvSpPr>
        <p:spPr>
          <a:xfrm>
            <a:off x="457200" y="5410080"/>
            <a:ext cx="82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СЕМИНАР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Канабиноиди (хашиш,марихуана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Испарљиви растварачи и деривати петролеума (ацетон, лепак, бензен, бензин, аеросоли...) и други инхаланси-азот моноксид и сл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Алкалоиди беладоне (атропин,скополамин,хоматропин,семе мака...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Алкохол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Никотин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Кофеин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  <a:ea typeface="Arial"/>
              </a:rPr>
              <a:t>УПОТРЕБ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  <a:ea typeface="Arial"/>
              </a:rPr>
              <a:t>ЗЛОУПОТРЕБ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  <a:ea typeface="Arial"/>
              </a:rPr>
              <a:t>СУПСТАНЦИ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Данас на нарко-тржишту постоји више хиљада тзв. ДИЗАЈНИРАНИХ ДРОГА (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Designer drog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) које се од класичних дрога разликују по свом пореклу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То су синтетски препарати који настају модификацијама молекула познатих дрога и јефтиније су на тржишту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Оне су производ илегалних лабораторија и тзв.“кухињских хемичара„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Синтетишу се у немедицинске сврхе, а обликоване су у форми праха, таблета или капсула и имају стимулативно или депресивно дејство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  <a:ea typeface="Arial"/>
              </a:rPr>
              <a:t>УПОТРЕБ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  <a:ea typeface="Arial"/>
              </a:rPr>
              <a:t>ЗЛОУПОТРЕБ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  <a:ea typeface="Arial"/>
              </a:rPr>
              <a:t>СУПСТАНЦИ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Често имају непријатне и потенцијално леталне нежељене ефекте, а ако се у некој фази припреме супстанца прегреје или лошије обради добија се летални отр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У ове супстанце спадају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ctasy, China, White, X, Persian, Adam, Eve, XTC, Tango &amp; Crack, ..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  <a:ea typeface="Arial"/>
              </a:rPr>
              <a:t>УПОТРЕБ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  <a:ea typeface="Arial"/>
              </a:rPr>
              <a:t>ЗЛОУПОТРЕБ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  <a:ea typeface="Arial"/>
              </a:rPr>
              <a:t>СУПСТАНЦИ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Људи свих култура, у свим епохама користили су психоактивне супстанце да би изменили стање свести и расположење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Однос друштва према коришћењу супстанци и према онима који имају проблем злоупотребе дрога, варира од прохибиције и осудјивања до толеранције и лечења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  <a:ea typeface="Arial"/>
              </a:rPr>
              <a:t>УПОТРЕБ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  <a:ea typeface="Arial"/>
              </a:rPr>
              <a:t>ЗЛОУПОТРЕБ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  <a:ea typeface="Arial"/>
              </a:rPr>
              <a:t>СУПСТАНЦИ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Разлози за злоупотребу супстанци могу бити мешовити и обично су потрага за поновљеним осећањем задовољства, културалне или субкултуралне норме, самолечење анксиозности, социјалне фобије, инсомније итд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У третману болести зависности се подједнако користе и фармаколошке и психотерапијске интервенције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Бављење третманом болести зависности подразумева одређене вештине медицинских професионалаца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83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Вештине медицинских професионалаца у третману болести зависнос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Препознавање психијатријских симптома повезаних са злоупотребом супстанц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Вештина психијатријског интервјуа и саветовањ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Континуирано праћење нових фрамаколошких и психотерапијских модела у третману болести зависност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Свест о актуелном моделу коришћења супстанци у заједниц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Сарадња са организацијама које раде изван здравственог система и размена информациј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Способност да се проблем зависности посматра у дужем временском периоду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Способност да се сагледа здравствено стање у ширем контексту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83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Вештине медицинских професионалаца у третману болести зависнос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599840"/>
            <a:ext cx="8229600" cy="258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Свест о актуелном моделу коришћења супстанци у заједниц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Сарадња са организацијама које раде изван здравственог система и размена информациј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Способност да се проблем зависности посматра у дужем временском периоду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Способност да се сагледа здравствено стање у ширем контексту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46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Постоји  више образаца коришћења супстанци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19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Експериментално коришћење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Ситуационо коришћење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Рекретаивно коришћење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Политоксикоманија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Зависност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Дуалне дијагнозе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46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ПОРЕМЕЋАЈ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КОД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ЗЛОУПОТРЕБ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СУПСТАНЦИ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599840"/>
            <a:ext cx="8229600" cy="178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Болест зависности подразумева да особа користећи психоактивну супстанцу проузрокује занемаривање осталих животних активности, развија психичку и (или) физичку зависност и оштећење здравља на психичком, соматском и социјалном нивоу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  <a:ea typeface="Arial"/>
              </a:rPr>
              <a:t>УПОТРЕБ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  <a:ea typeface="Arial"/>
              </a:rPr>
              <a:t>ЗЛОУПОТРЕБ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  <a:ea typeface="Arial"/>
              </a:rPr>
              <a:t>СУПСТАНЦИ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У новој класификацији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APA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-е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DSM IV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термин ПАС (психоактивна супстанца) замењен је термином СУПСТАНЦА који укључује дрогу, медикамент или токсин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Од нових класа ПАС ту су: седативи и хипнотици, кофеин и испарљиви растварачи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i="1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DSM IV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класификациј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  <a:ea typeface="Arial"/>
              </a:rPr>
              <a:t>a-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супстанц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су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подељен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н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11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класа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599840"/>
            <a:ext cx="8229600" cy="483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Опиоиди (опијум, морфин, хероин, меперидин, метадон, пентазоцин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Амфетамини и сличне материје са симпатикомиметским дејством, укључујући и кокаин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Халуциногени (ЛСД, псилоцибин, мескалин, ДЕТ, ДМТ, ДОМ или СТП, МДА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ПЦП и слични арилциклохексиламини, укључујући кетамин,ТЦП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Депресори ЦНС-а (барбитурати, БДЗ, мепробамат, глутамид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5T15:26:32Z</dcterms:created>
  <dc:creator>XP</dc:creator>
  <dc:description/>
  <dc:language>en-US</dc:language>
  <cp:lastModifiedBy>Minja</cp:lastModifiedBy>
  <dcterms:modified xsi:type="dcterms:W3CDTF">2017-01-31T00:10:58Z</dcterms:modified>
  <cp:revision>17</cp:revision>
  <dc:subject/>
  <dc:title>I_nedelja_nastave_I12_Seminar</dc:title>
</cp:coreProperties>
</file>